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A43-DA6B-4B47-B915-84376168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36D-4CF6-4760-A62F-6F2E9B6B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724-35E1-4AB4-9A90-EB07708AE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6DEA-17DA-40B4-AF88-DB2D4F2C5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7BAD-7F1B-44A2-979D-3E96409B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711-B23A-49D7-948F-44342167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36D-CDE6-4629-B9AA-9AD1333C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5EE-47EE-42C9-A54F-462DD870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278-D571-4A33-8D50-679E0137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048-6656-430D-BC82-72BE9C0F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C4B-ABA5-4247-82FB-F26B5905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E1B-B891-4294-B4DF-FDAC2576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77E-A235-4FC1-864D-8E1E1926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529-4F7D-496B-BB99-CE761EEB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57E-94EC-4BBC-B7CC-233302A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1DA-A968-460E-845A-E0E1927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0ED-8FC1-48E9-BB48-0E256EA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CAF-7CCF-4FBA-8C99-3A08F75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AB7-C9F7-4C71-B5D2-87A1A2E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DA7-0F89-4746-B572-DAE0A39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664-44EF-4B6A-9A6A-554742F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ABD-902F-4C38-827B-B3F5295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91C-F707-40BA-B271-867B467326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 И ЕК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ДРУГ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333360"/>
            <a:ext cx="7925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оје две дефиниције зв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Физ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низ промена било притиска, померања честица, механичког напона или каквог другог напрезања, које се јавља у еластичној или вискозној сред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све оно што чујемо, тј. Звук је осећај који се прима преко органа слуха,  а изазван је променама ваздушн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762120" y="1828800"/>
            <a:ext cx="74674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к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зив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Ш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у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прио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ут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о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чк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дражај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В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762120" y="2057400"/>
            <a:ext cx="746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опа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охладан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1-18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хлада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762120" y="2057400"/>
            <a:ext cx="74674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чу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ли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схла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дравст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бјектив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ећ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главн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регулатор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ремен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еме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купат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к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,5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762120" y="1752480"/>
            <a:ext cx="746748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викнут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ла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крив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ваздушни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бањам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мфор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о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мф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комформ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бавез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ре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762120" y="1676520"/>
            <a:ext cx="746748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у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к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редн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ж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б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игментац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ук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ог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руд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нутрашње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кстремите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аб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б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јачино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V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к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ч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ерио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аштић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ректн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62120" y="1492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фрацр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990720" y="3086280"/>
            <a:ext cx="6781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79280" y="1676520"/>
            <a:ext cx="8278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физичк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ина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тичк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ет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000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електромагнетског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арактер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315-4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итем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80-315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терицид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рахитич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8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убија живе ћел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http://blog.meteo-info.hr/wp-content/uploads/2009/10/1.jpg"/>
          <p:cNvPicPr/>
          <p:nvPr/>
        </p:nvPicPr>
        <p:blipFill>
          <a:blip r:embed="rId1"/>
          <a:stretch/>
        </p:blipFill>
        <p:spPr>
          <a:xfrm>
            <a:off x="6875640" y="1136520"/>
            <a:ext cx="18302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762120" y="2060640"/>
            <a:ext cx="76960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тлос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дљи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видљив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4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фрацрве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м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иолош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активни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762120" y="1523880"/>
            <a:ext cx="7467480" cy="49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бљ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ло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аста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дморск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етеоролошк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ефлекту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нег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75%)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ањ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блац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00%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уст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ељеност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елики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радовим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/5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иже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62120" y="1787400"/>
            <a:ext cx="75438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кс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стављ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нев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гноз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чекива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казу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епе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ре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е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орав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ворен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виђ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уч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едеће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0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+ (0 =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имал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10+=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л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со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имајућ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еменс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пу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лачнос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окалн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ли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20350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85800" y="22068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 слуха код људи је неосетљив на сталан ваздушни притисак, али је осетљив на брзе промене притиска које се стварају вибрирањем пов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тојање између два узастопна слоја сабијеног или два узастопна слоја разређеног ваздуха је ТАЛАСНА ДУЖ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914400" y="2109960"/>
            <a:ext cx="75438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378000" y="2205000"/>
            <a:ext cx="8464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914400" y="1976400"/>
            <a:ext cx="7086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762120" y="1660680"/>
            <a:ext cx="784836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SP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od Solar Protection Fa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штит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овор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лик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сеч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ста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ме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о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та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пекот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в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хвати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граниче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вис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ип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јосетљивиј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црвен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лаво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нач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порционал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игур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676520"/>
            <a:ext cx="74674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вис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алас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аћа-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оже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ивидуалне осетљив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вре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л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762120" y="1676520"/>
            <a:ext cx="7467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окал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ри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762120" y="1676520"/>
            <a:ext cx="74674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ст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њ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ј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олесте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а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зградњ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ланче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гље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идра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јабете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ло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76240" y="1268280"/>
            <a:ext cx="746784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учив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краћ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х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по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бљ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етк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рите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ниж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%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брз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ирк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агулабил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имул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62120" y="1676520"/>
            <a:ext cx="746748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н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,5-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ш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рљи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ра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лад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е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л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вгуст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сматич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л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760320" y="1268280"/>
            <a:ext cx="74678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ле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сте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уровегета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их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и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метњ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ематопоез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нем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узетак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орија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9640" y="549360"/>
            <a:ext cx="820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ина којом површина посматраног тела вибрира је ФРЕКФЕНЦ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број осцилација у једној секунди) и зражава се у херцим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z). Човечије ухо може да чује звучне таласе од 16 до 20000 Hz, а најбоље чује од 500 до 4000 Hz. Звучни таласи испод 16 Hz се називају инфразвук, а изнад 20000 Hz ултра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СНОСТ БУКЕ се одређује органом слуха и зависи од јачине и фрекфенцијског састава буке. Јединица гласности је фон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 Један фон је јачина 1 децибел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на фрекфенцији од 1000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795240" y="1989000"/>
            <a:ext cx="74678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СЕТЉИ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ЗДРА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ТАР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АМНОПУТИ ЉУД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КИНУТ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М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ЕДЕЉ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АЈАЊ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762120" y="1523880"/>
            <a:ext cx="746748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чув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ич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игије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зразитиј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аздух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мператур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г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водљивос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ој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ћ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лаз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жа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как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лив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762120" y="1752480"/>
            <a:ext cx="74674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нос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16-24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24-32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32-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ућ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62120" y="30178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циљ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јачањ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најкорисниј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вод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краћ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цедур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62120" y="1600200"/>
            <a:ext cx="746748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пликаци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762120" y="1600200"/>
            <a:ext cx="7467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влаж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п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ђе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че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ук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ог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в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8-1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ип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а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нижав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ешки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762120" y="1600200"/>
            <a:ext cx="74674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0-2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тис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-4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јача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зи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зитив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еб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крећ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762120" y="1600200"/>
            <a:ext cx="746748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еак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ј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ђ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в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дов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ја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ов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еж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од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хтав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762120" y="1600200"/>
            <a:ext cx="74674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пору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в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бољ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упак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ровод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јутр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тар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мнасти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на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sr-Latn-CS" sz="2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ла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40-80%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0,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2120" y="264960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буке разликујемо пр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29040" y="5143680"/>
            <a:ext cx="1838520" cy="1342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6215040" y="0"/>
            <a:ext cx="2467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5562720" y="260280"/>
            <a:ext cx="1989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6432480" y="3500280"/>
            <a:ext cx="2068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809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6516720" y="5229360"/>
            <a:ext cx="19875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500880" y="108000"/>
            <a:ext cx="2214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6156360" y="214200"/>
            <a:ext cx="2190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655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5019840" y="4149720"/>
            <a:ext cx="2238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261936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 разликују се две врсте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72720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715080" y="171360"/>
            <a:ext cx="19288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22384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929200" y="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7045200" y="836640"/>
            <a:ext cx="16956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7236000" y="836640"/>
            <a:ext cx="1574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258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940360" y="5300640"/>
            <a:ext cx="1332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радевинск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абир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хватљивиј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ч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рактерист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ушав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итују никак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ет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ду веом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н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и мењ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380360" y="3068640"/>
            <a:ext cx="1495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 Sick building 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ndrom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)-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познатог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же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ћ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ко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84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јави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за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г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ndoor air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q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ualit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рмин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Building related illnesses associated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mould e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pos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7242120" y="257184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5493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родни извор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рмљавина, завијање ветра и д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) могу да изазову веома јаку и непријатну буку, али се све мање сматрају узроцима оштећења здравља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Разликује се у односу на место на којем делуј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рад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 је сваки звук створен радом машине, алата и/или уређаја у производњи (бука оруђа на радном месту, оруђа са других радних места, непроизводних извора: саобраћај, вентилација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живот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је сваки звук који настаје ван радног места, што значи у становима, на улици, на местима за рекреацију, у школам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нтетичк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ол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еђај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нтилацио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сте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веже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спара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и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апе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ћ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љубимц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хемикал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актер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C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ољ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патил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ид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м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зо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нокси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ов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338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929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равко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ј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бог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неприкладно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ађене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еадекватно-лоше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државан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еба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овне 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ворен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кроклим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рхитекто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их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в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изаци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Штетн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гр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ветље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у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 снабдев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н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ијаћ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емијс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ише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иокси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вес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ирод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држа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рмалдехид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токопирн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пар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и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жава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зази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раз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егионарс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зрочн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актер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gionella pneumophi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годују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вој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ијск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тицај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ентал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кло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изразит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гле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дражљив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мо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мањ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одуктив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езвољ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а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бројани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чврс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еза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мањ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л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сељење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град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бољшање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прав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ођење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н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ветљенос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ацив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н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лаг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игурање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о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тмосфе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роби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071800" y="0"/>
            <a:ext cx="100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градњ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в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довним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атск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глед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оч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пидемиј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т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ртонос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мањ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ов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нат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бит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ик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давц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дуктивн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143240" y="0"/>
            <a:ext cx="1852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62120" y="727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752480"/>
            <a:ext cx="83818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 разликујемо пет врста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ална (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менљива (дис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Бука са тон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Испрекидана бука (појединачни звуци или шум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79280" y="115920"/>
            <a:ext cx="8535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алн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мења у границама од највише 5 дБ(А), при чему се за измерени ниво буке узима просечни ниво у току мерног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љив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ис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непрекидно мења у границама већим од 5дБ(А), а не подлеже дефиницији испрекидане б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која садржи чујне импулсе краће од 1 секунде, који се јављају појединачно или брзо следе један за другим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оже бити сталног или променљивог ниво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тоновим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ујн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ск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понент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Испрекидана бука (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појединачни звуци или шумови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је бука чији ниво повремено нагло пада на ниво буке околине, при чему је трајање ове буке између прекида веће од 1 секу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26920" y="2168640"/>
            <a:ext cx="7490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 може дело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. Поврем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ј утицај најчешће узрокује физиолошке реакциј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ма, осим ако је реч о буци врло велике ја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2. Ст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 бука може првобитне физиолошке реакције д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твори у трајне патолошке промене које времено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пред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 правилу и почетном стадијуму промене су лаке, једва приметне, губе се после престанка деловања буке и не скрећу пажњу на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2116080"/>
            <a:ext cx="80010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утицају на људски организам бука се најчешће класификује на звук који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2146320"/>
            <a:ext cx="762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а је сваки нежељени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и звук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алама, говор, лупа и др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који омета рад или одмор довољно је јак, издваја се од осталих звукова и добро се чује, је б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у могу да чине и тихи звуци под одређеним условим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азговор гледалаца у позоришној сали за време предста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85800" y="71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50920" y="1700280"/>
            <a:ext cx="8641800" cy="4755600"/>
            <a:chOff x="250920" y="1700280"/>
            <a:chExt cx="8641800" cy="4755600"/>
          </a:xfrm>
        </p:grpSpPr>
        <p:sp>
          <p:nvSpPr>
            <p:cNvPr id="75" name="Freeform 4"/>
            <p:cNvSpPr/>
            <p:nvPr/>
          </p:nvSpPr>
          <p:spPr>
            <a:xfrm>
              <a:off x="3681000" y="1724400"/>
              <a:ext cx="2031480" cy="47314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6258240" y="2667960"/>
              <a:ext cx="2634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imes New Roman"/>
                </a:rPr>
                <a:t>КАРДИВАСКУЛА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4473720" y="340020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113080" y="27464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5045040" y="31118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4818240" y="262188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4473720" y="3233520"/>
              <a:ext cx="360" cy="44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4473720" y="3218400"/>
              <a:ext cx="3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4426200" y="62834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4486320" y="6191280"/>
              <a:ext cx="1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486320" y="60926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4472280" y="6225120"/>
              <a:ext cx="4896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448160" y="6297480"/>
              <a:ext cx="4284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4239360" y="2996280"/>
              <a:ext cx="132120" cy="61452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045040" y="2968560"/>
              <a:ext cx="132120" cy="5932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4196520" y="2939040"/>
              <a:ext cx="149400" cy="50688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078160" y="2934360"/>
              <a:ext cx="147960" cy="54396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4563000" y="4156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4550400" y="1775520"/>
              <a:ext cx="328320" cy="206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4548600" y="1786320"/>
              <a:ext cx="116280" cy="146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4866120" y="2001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4394160" y="3074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4397040" y="3005640"/>
              <a:ext cx="23760" cy="64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4406760" y="2530800"/>
              <a:ext cx="202320" cy="429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4629960" y="2529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4669920" y="2597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4773600" y="2523240"/>
              <a:ext cx="30240" cy="69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4803840" y="2523240"/>
              <a:ext cx="219600" cy="48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5045040" y="3064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5045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5045040" y="310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500184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499392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4756320" y="3008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4756320" y="2598480"/>
              <a:ext cx="23760" cy="369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4650480" y="2678760"/>
              <a:ext cx="24120" cy="11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4660560" y="2641680"/>
              <a:ext cx="23760" cy="32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4660560" y="2632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4660560" y="2628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4660560" y="2621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466056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467640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690800" y="260640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704840" y="26229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4704840" y="26370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4704840" y="2643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470664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4706640" y="2669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4708080" y="267876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4818240" y="26186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4818240" y="2621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4812120" y="265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48135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48153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4942440" y="28450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4902840" y="2999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4472280" y="3188880"/>
              <a:ext cx="2376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4472280" y="317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4472280" y="3158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4472280" y="3151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4470480" y="3047040"/>
              <a:ext cx="86040" cy="95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4564440" y="3045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4563000" y="3045600"/>
              <a:ext cx="1720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4734000" y="306432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4770360" y="306576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4791240" y="3065760"/>
              <a:ext cx="26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4820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4821480" y="3065760"/>
              <a:ext cx="34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4856400" y="3066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4536000" y="3298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4473720" y="3281400"/>
              <a:ext cx="63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5177160" y="289152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5177160" y="28976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4497840" y="3415320"/>
              <a:ext cx="38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4496400" y="3411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4496400" y="3265920"/>
              <a:ext cx="97200" cy="147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4601520" y="3265920"/>
              <a:ext cx="54000" cy="43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4631760" y="3301560"/>
              <a:ext cx="2700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4604760" y="3356640"/>
              <a:ext cx="2376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604760" y="3392280"/>
              <a:ext cx="23760" cy="42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620600" y="3437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623840" y="3441600"/>
              <a:ext cx="2844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654080" y="3498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461880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4734000" y="338940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4734000" y="3389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4732200" y="33894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4708080" y="3364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4706640" y="3265920"/>
              <a:ext cx="50760" cy="87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475776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476100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764240" y="3264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757760" y="3256920"/>
              <a:ext cx="224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928400" y="3279960"/>
              <a:ext cx="61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826520" y="3288960"/>
              <a:ext cx="9540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823280" y="3341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768920" y="3341520"/>
              <a:ext cx="5544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4768920" y="3393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4767120" y="33955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4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4886640" y="35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6"/>
            <p:cNvSpPr/>
            <p:nvPr/>
          </p:nvSpPr>
          <p:spPr>
            <a:xfrm>
              <a:off x="4888800" y="3497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7"/>
            <p:cNvSpPr/>
            <p:nvPr/>
          </p:nvSpPr>
          <p:spPr>
            <a:xfrm>
              <a:off x="4888800" y="345384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8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9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0"/>
            <p:cNvSpPr/>
            <p:nvPr/>
          </p:nvSpPr>
          <p:spPr>
            <a:xfrm>
              <a:off x="4904640" y="3407760"/>
              <a:ext cx="2376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1"/>
            <p:cNvSpPr/>
            <p:nvPr/>
          </p:nvSpPr>
          <p:spPr>
            <a:xfrm>
              <a:off x="4920480" y="340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2"/>
            <p:cNvSpPr/>
            <p:nvPr/>
          </p:nvSpPr>
          <p:spPr>
            <a:xfrm>
              <a:off x="4881960" y="3327840"/>
              <a:ext cx="38160" cy="65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3"/>
            <p:cNvSpPr/>
            <p:nvPr/>
          </p:nvSpPr>
          <p:spPr>
            <a:xfrm>
              <a:off x="4881960" y="3278160"/>
              <a:ext cx="95400" cy="49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4"/>
            <p:cNvSpPr/>
            <p:nvPr/>
          </p:nvSpPr>
          <p:spPr>
            <a:xfrm>
              <a:off x="4986000" y="32781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5"/>
            <p:cNvSpPr/>
            <p:nvPr/>
          </p:nvSpPr>
          <p:spPr>
            <a:xfrm>
              <a:off x="4992120" y="3296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6"/>
            <p:cNvSpPr/>
            <p:nvPr/>
          </p:nvSpPr>
          <p:spPr>
            <a:xfrm>
              <a:off x="5000040" y="3307320"/>
              <a:ext cx="23760" cy="662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7"/>
            <p:cNvSpPr/>
            <p:nvPr/>
          </p:nvSpPr>
          <p:spPr>
            <a:xfrm>
              <a:off x="5025600" y="33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8"/>
            <p:cNvSpPr/>
            <p:nvPr/>
          </p:nvSpPr>
          <p:spPr>
            <a:xfrm>
              <a:off x="4934520" y="3404520"/>
              <a:ext cx="84600" cy="123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9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0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1"/>
            <p:cNvSpPr/>
            <p:nvPr/>
          </p:nvSpPr>
          <p:spPr>
            <a:xfrm>
              <a:off x="493164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2"/>
            <p:cNvSpPr/>
            <p:nvPr/>
          </p:nvSpPr>
          <p:spPr>
            <a:xfrm>
              <a:off x="4404960" y="3961080"/>
              <a:ext cx="162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3"/>
            <p:cNvSpPr/>
            <p:nvPr/>
          </p:nvSpPr>
          <p:spPr>
            <a:xfrm>
              <a:off x="442440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4"/>
            <p:cNvSpPr/>
            <p:nvPr/>
          </p:nvSpPr>
          <p:spPr>
            <a:xfrm>
              <a:off x="443412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5"/>
            <p:cNvSpPr/>
            <p:nvPr/>
          </p:nvSpPr>
          <p:spPr>
            <a:xfrm>
              <a:off x="444204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6"/>
            <p:cNvSpPr/>
            <p:nvPr/>
          </p:nvSpPr>
          <p:spPr>
            <a:xfrm>
              <a:off x="4459320" y="4070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7"/>
            <p:cNvSpPr/>
            <p:nvPr/>
          </p:nvSpPr>
          <p:spPr>
            <a:xfrm>
              <a:off x="4483080" y="3961080"/>
              <a:ext cx="51120" cy="76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8"/>
            <p:cNvSpPr/>
            <p:nvPr/>
          </p:nvSpPr>
          <p:spPr>
            <a:xfrm>
              <a:off x="4515480" y="398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9"/>
            <p:cNvSpPr/>
            <p:nvPr/>
          </p:nvSpPr>
          <p:spPr>
            <a:xfrm>
              <a:off x="4563000" y="403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0"/>
            <p:cNvSpPr/>
            <p:nvPr/>
          </p:nvSpPr>
          <p:spPr>
            <a:xfrm>
              <a:off x="4467240" y="4124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1"/>
            <p:cNvSpPr/>
            <p:nvPr/>
          </p:nvSpPr>
          <p:spPr>
            <a:xfrm>
              <a:off x="4443480" y="3859200"/>
              <a:ext cx="34920" cy="163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2"/>
            <p:cNvSpPr/>
            <p:nvPr/>
          </p:nvSpPr>
          <p:spPr>
            <a:xfrm>
              <a:off x="4486320" y="4104360"/>
              <a:ext cx="25560" cy="30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4486320" y="4102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4"/>
            <p:cNvSpPr/>
            <p:nvPr/>
          </p:nvSpPr>
          <p:spPr>
            <a:xfrm>
              <a:off x="4486320" y="4102920"/>
              <a:ext cx="25560" cy="32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5"/>
            <p:cNvSpPr/>
            <p:nvPr/>
          </p:nvSpPr>
          <p:spPr>
            <a:xfrm>
              <a:off x="4555080" y="4155480"/>
              <a:ext cx="326880" cy="1814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4614120" y="427824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4555080" y="4155480"/>
              <a:ext cx="54000" cy="11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4606200" y="4155480"/>
              <a:ext cx="54000" cy="50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9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0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1"/>
            <p:cNvSpPr/>
            <p:nvPr/>
          </p:nvSpPr>
          <p:spPr>
            <a:xfrm>
              <a:off x="4585680" y="418932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2"/>
            <p:cNvSpPr/>
            <p:nvPr/>
          </p:nvSpPr>
          <p:spPr>
            <a:xfrm>
              <a:off x="4585680" y="4198320"/>
              <a:ext cx="2376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3"/>
            <p:cNvSpPr/>
            <p:nvPr/>
          </p:nvSpPr>
          <p:spPr>
            <a:xfrm>
              <a:off x="4588560" y="4250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4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5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6"/>
            <p:cNvSpPr/>
            <p:nvPr/>
          </p:nvSpPr>
          <p:spPr>
            <a:xfrm>
              <a:off x="462060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7"/>
            <p:cNvSpPr/>
            <p:nvPr/>
          </p:nvSpPr>
          <p:spPr>
            <a:xfrm>
              <a:off x="462204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8"/>
            <p:cNvSpPr/>
            <p:nvPr/>
          </p:nvSpPr>
          <p:spPr>
            <a:xfrm>
              <a:off x="4628520" y="4203000"/>
              <a:ext cx="89280" cy="50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9"/>
            <p:cNvSpPr/>
            <p:nvPr/>
          </p:nvSpPr>
          <p:spPr>
            <a:xfrm>
              <a:off x="4723920" y="4203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0"/>
            <p:cNvSpPr/>
            <p:nvPr/>
          </p:nvSpPr>
          <p:spPr>
            <a:xfrm>
              <a:off x="4732200" y="4204440"/>
              <a:ext cx="669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1"/>
            <p:cNvSpPr/>
            <p:nvPr/>
          </p:nvSpPr>
          <p:spPr>
            <a:xfrm>
              <a:off x="4805280" y="42260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2"/>
            <p:cNvSpPr/>
            <p:nvPr/>
          </p:nvSpPr>
          <p:spPr>
            <a:xfrm>
              <a:off x="4829400" y="42494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3"/>
            <p:cNvSpPr/>
            <p:nvPr/>
          </p:nvSpPr>
          <p:spPr>
            <a:xfrm>
              <a:off x="4843800" y="42584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4"/>
            <p:cNvSpPr/>
            <p:nvPr/>
          </p:nvSpPr>
          <p:spPr>
            <a:xfrm>
              <a:off x="4847040" y="4232160"/>
              <a:ext cx="3492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5"/>
            <p:cNvSpPr/>
            <p:nvPr/>
          </p:nvSpPr>
          <p:spPr>
            <a:xfrm>
              <a:off x="4883400" y="42289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6"/>
            <p:cNvSpPr/>
            <p:nvPr/>
          </p:nvSpPr>
          <p:spPr>
            <a:xfrm>
              <a:off x="4877280" y="4200120"/>
              <a:ext cx="237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7"/>
            <p:cNvSpPr/>
            <p:nvPr/>
          </p:nvSpPr>
          <p:spPr>
            <a:xfrm>
              <a:off x="4812120" y="415656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8"/>
            <p:cNvSpPr/>
            <p:nvPr/>
          </p:nvSpPr>
          <p:spPr>
            <a:xfrm>
              <a:off x="4869360" y="41565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9"/>
            <p:cNvSpPr/>
            <p:nvPr/>
          </p:nvSpPr>
          <p:spPr>
            <a:xfrm>
              <a:off x="48484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0"/>
            <p:cNvSpPr/>
            <p:nvPr/>
          </p:nvSpPr>
          <p:spPr>
            <a:xfrm>
              <a:off x="48502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81"/>
            <p:cNvSpPr/>
            <p:nvPr/>
          </p:nvSpPr>
          <p:spPr>
            <a:xfrm>
              <a:off x="4829400" y="4281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2"/>
            <p:cNvSpPr/>
            <p:nvPr/>
          </p:nvSpPr>
          <p:spPr>
            <a:xfrm>
              <a:off x="4741920" y="4353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3"/>
            <p:cNvSpPr/>
            <p:nvPr/>
          </p:nvSpPr>
          <p:spPr>
            <a:xfrm>
              <a:off x="4376520" y="5873400"/>
              <a:ext cx="189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4"/>
            <p:cNvSpPr/>
            <p:nvPr/>
          </p:nvSpPr>
          <p:spPr>
            <a:xfrm>
              <a:off x="4507560" y="5884200"/>
              <a:ext cx="33120" cy="630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5"/>
            <p:cNvSpPr/>
            <p:nvPr/>
          </p:nvSpPr>
          <p:spPr>
            <a:xfrm>
              <a:off x="4526640" y="5955120"/>
              <a:ext cx="23760" cy="694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6"/>
            <p:cNvSpPr/>
            <p:nvPr/>
          </p:nvSpPr>
          <p:spPr>
            <a:xfrm>
              <a:off x="4518360" y="6027480"/>
              <a:ext cx="33480" cy="3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87"/>
            <p:cNvSpPr/>
            <p:nvPr/>
          </p:nvSpPr>
          <p:spPr>
            <a:xfrm>
              <a:off x="4553280" y="5979960"/>
              <a:ext cx="24120" cy="81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88"/>
            <p:cNvSpPr/>
            <p:nvPr/>
          </p:nvSpPr>
          <p:spPr>
            <a:xfrm>
              <a:off x="4555080" y="5890680"/>
              <a:ext cx="30240" cy="102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9"/>
            <p:cNvSpPr/>
            <p:nvPr/>
          </p:nvSpPr>
          <p:spPr>
            <a:xfrm>
              <a:off x="4583880" y="5890680"/>
              <a:ext cx="23760" cy="178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0"/>
            <p:cNvSpPr/>
            <p:nvPr/>
          </p:nvSpPr>
          <p:spPr>
            <a:xfrm>
              <a:off x="4563000" y="6072480"/>
              <a:ext cx="2376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1"/>
            <p:cNvSpPr/>
            <p:nvPr/>
          </p:nvSpPr>
          <p:spPr>
            <a:xfrm>
              <a:off x="4555080" y="6154200"/>
              <a:ext cx="23760" cy="38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2"/>
            <p:cNvSpPr/>
            <p:nvPr/>
          </p:nvSpPr>
          <p:spPr>
            <a:xfrm>
              <a:off x="4496400" y="6189480"/>
              <a:ext cx="5400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93"/>
            <p:cNvSpPr/>
            <p:nvPr/>
          </p:nvSpPr>
          <p:spPr>
            <a:xfrm>
              <a:off x="4443480" y="6211080"/>
              <a:ext cx="52560" cy="112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4"/>
            <p:cNvSpPr/>
            <p:nvPr/>
          </p:nvSpPr>
          <p:spPr>
            <a:xfrm>
              <a:off x="4427640" y="6212880"/>
              <a:ext cx="65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95"/>
            <p:cNvSpPr/>
            <p:nvPr/>
          </p:nvSpPr>
          <p:spPr>
            <a:xfrm>
              <a:off x="4412880" y="6285240"/>
              <a:ext cx="24120" cy="35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6"/>
            <p:cNvSpPr/>
            <p:nvPr/>
          </p:nvSpPr>
          <p:spPr>
            <a:xfrm>
              <a:off x="442440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7"/>
            <p:cNvSpPr/>
            <p:nvPr/>
          </p:nvSpPr>
          <p:spPr>
            <a:xfrm>
              <a:off x="4426200" y="6191280"/>
              <a:ext cx="5688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98"/>
            <p:cNvSpPr/>
            <p:nvPr/>
          </p:nvSpPr>
          <p:spPr>
            <a:xfrm>
              <a:off x="4387680" y="6189480"/>
              <a:ext cx="92520" cy="110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9"/>
            <p:cNvSpPr/>
            <p:nvPr/>
          </p:nvSpPr>
          <p:spPr>
            <a:xfrm>
              <a:off x="439236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0"/>
            <p:cNvSpPr/>
            <p:nvPr/>
          </p:nvSpPr>
          <p:spPr>
            <a:xfrm>
              <a:off x="4394160" y="6200280"/>
              <a:ext cx="5364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1"/>
            <p:cNvSpPr/>
            <p:nvPr/>
          </p:nvSpPr>
          <p:spPr>
            <a:xfrm>
              <a:off x="4449960" y="6168240"/>
              <a:ext cx="23760" cy="30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2"/>
            <p:cNvSpPr/>
            <p:nvPr/>
          </p:nvSpPr>
          <p:spPr>
            <a:xfrm>
              <a:off x="4375080" y="6168240"/>
              <a:ext cx="86040" cy="98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3"/>
            <p:cNvSpPr/>
            <p:nvPr/>
          </p:nvSpPr>
          <p:spPr>
            <a:xfrm>
              <a:off x="4375080" y="6246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4"/>
            <p:cNvSpPr/>
            <p:nvPr/>
          </p:nvSpPr>
          <p:spPr>
            <a:xfrm>
              <a:off x="4379760" y="6244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5"/>
            <p:cNvSpPr/>
            <p:nvPr/>
          </p:nvSpPr>
          <p:spPr>
            <a:xfrm>
              <a:off x="4379760" y="6157080"/>
              <a:ext cx="68040" cy="81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06"/>
            <p:cNvSpPr/>
            <p:nvPr/>
          </p:nvSpPr>
          <p:spPr>
            <a:xfrm>
              <a:off x="4453200" y="6157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07"/>
            <p:cNvSpPr/>
            <p:nvPr/>
          </p:nvSpPr>
          <p:spPr>
            <a:xfrm>
              <a:off x="4384440" y="6157080"/>
              <a:ext cx="63360" cy="61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08"/>
            <p:cNvSpPr/>
            <p:nvPr/>
          </p:nvSpPr>
          <p:spPr>
            <a:xfrm>
              <a:off x="4384440" y="6223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9"/>
            <p:cNvSpPr/>
            <p:nvPr/>
          </p:nvSpPr>
          <p:spPr>
            <a:xfrm>
              <a:off x="4384440" y="6090840"/>
              <a:ext cx="93960" cy="121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0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1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12"/>
            <p:cNvSpPr/>
            <p:nvPr/>
          </p:nvSpPr>
          <p:spPr>
            <a:xfrm>
              <a:off x="4486320" y="607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13"/>
            <p:cNvSpPr/>
            <p:nvPr/>
          </p:nvSpPr>
          <p:spPr>
            <a:xfrm>
              <a:off x="4491000" y="6069600"/>
              <a:ext cx="2412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4"/>
            <p:cNvSpPr/>
            <p:nvPr/>
          </p:nvSpPr>
          <p:spPr>
            <a:xfrm>
              <a:off x="4492800" y="5889240"/>
              <a:ext cx="23760" cy="164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5"/>
            <p:cNvSpPr/>
            <p:nvPr/>
          </p:nvSpPr>
          <p:spPr>
            <a:xfrm>
              <a:off x="4509000" y="5912280"/>
              <a:ext cx="57240" cy="1674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16"/>
            <p:cNvSpPr/>
            <p:nvPr/>
          </p:nvSpPr>
          <p:spPr>
            <a:xfrm>
              <a:off x="4509000" y="5910480"/>
              <a:ext cx="23760" cy="133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7"/>
            <p:cNvSpPr/>
            <p:nvPr/>
          </p:nvSpPr>
          <p:spPr>
            <a:xfrm>
              <a:off x="4509000" y="6053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8"/>
            <p:cNvSpPr/>
            <p:nvPr/>
          </p:nvSpPr>
          <p:spPr>
            <a:xfrm>
              <a:off x="451692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19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0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1"/>
            <p:cNvSpPr/>
            <p:nvPr/>
          </p:nvSpPr>
          <p:spPr>
            <a:xfrm>
              <a:off x="452016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2"/>
            <p:cNvSpPr/>
            <p:nvPr/>
          </p:nvSpPr>
          <p:spPr>
            <a:xfrm>
              <a:off x="4523400" y="6078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3"/>
            <p:cNvSpPr/>
            <p:nvPr/>
          </p:nvSpPr>
          <p:spPr>
            <a:xfrm>
              <a:off x="452340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4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25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26"/>
            <p:cNvSpPr/>
            <p:nvPr/>
          </p:nvSpPr>
          <p:spPr>
            <a:xfrm>
              <a:off x="453456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7"/>
            <p:cNvSpPr/>
            <p:nvPr/>
          </p:nvSpPr>
          <p:spPr>
            <a:xfrm>
              <a:off x="4537440" y="6081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8"/>
            <p:cNvSpPr/>
            <p:nvPr/>
          </p:nvSpPr>
          <p:spPr>
            <a:xfrm>
              <a:off x="4539240" y="6081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9"/>
            <p:cNvSpPr/>
            <p:nvPr/>
          </p:nvSpPr>
          <p:spPr>
            <a:xfrm>
              <a:off x="4558320" y="5986080"/>
              <a:ext cx="23760" cy="100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0"/>
            <p:cNvSpPr/>
            <p:nvPr/>
          </p:nvSpPr>
          <p:spPr>
            <a:xfrm>
              <a:off x="4566240" y="5913720"/>
              <a:ext cx="23760" cy="84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1"/>
            <p:cNvSpPr/>
            <p:nvPr/>
          </p:nvSpPr>
          <p:spPr>
            <a:xfrm>
              <a:off x="4470480" y="6117120"/>
              <a:ext cx="41400" cy="522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2"/>
            <p:cNvSpPr/>
            <p:nvPr/>
          </p:nvSpPr>
          <p:spPr>
            <a:xfrm>
              <a:off x="4469040" y="6115680"/>
              <a:ext cx="4284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3"/>
            <p:cNvSpPr/>
            <p:nvPr/>
          </p:nvSpPr>
          <p:spPr>
            <a:xfrm>
              <a:off x="4510440" y="6134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4"/>
            <p:cNvSpPr/>
            <p:nvPr/>
          </p:nvSpPr>
          <p:spPr>
            <a:xfrm>
              <a:off x="4509000" y="6143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5"/>
            <p:cNvSpPr/>
            <p:nvPr/>
          </p:nvSpPr>
          <p:spPr>
            <a:xfrm>
              <a:off x="4504320" y="614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6"/>
            <p:cNvSpPr/>
            <p:nvPr/>
          </p:nvSpPr>
          <p:spPr>
            <a:xfrm>
              <a:off x="4502520" y="61477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7"/>
            <p:cNvSpPr/>
            <p:nvPr/>
          </p:nvSpPr>
          <p:spPr>
            <a:xfrm>
              <a:off x="4502520" y="61495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38"/>
            <p:cNvSpPr/>
            <p:nvPr/>
          </p:nvSpPr>
          <p:spPr>
            <a:xfrm>
              <a:off x="4499640" y="6154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9"/>
            <p:cNvSpPr/>
            <p:nvPr/>
          </p:nvSpPr>
          <p:spPr>
            <a:xfrm>
              <a:off x="4497840" y="6171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0"/>
            <p:cNvSpPr/>
            <p:nvPr/>
          </p:nvSpPr>
          <p:spPr>
            <a:xfrm>
              <a:off x="4467240" y="6149520"/>
              <a:ext cx="28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1"/>
            <p:cNvSpPr/>
            <p:nvPr/>
          </p:nvSpPr>
          <p:spPr>
            <a:xfrm>
              <a:off x="4486320" y="6095520"/>
              <a:ext cx="36720" cy="957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2"/>
            <p:cNvSpPr/>
            <p:nvPr/>
          </p:nvSpPr>
          <p:spPr>
            <a:xfrm>
              <a:off x="4486320" y="6094080"/>
              <a:ext cx="36720" cy="96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3"/>
            <p:cNvSpPr/>
            <p:nvPr/>
          </p:nvSpPr>
          <p:spPr>
            <a:xfrm>
              <a:off x="4512240" y="6143400"/>
              <a:ext cx="31680" cy="446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4"/>
            <p:cNvSpPr/>
            <p:nvPr/>
          </p:nvSpPr>
          <p:spPr>
            <a:xfrm>
              <a:off x="4523400" y="614196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5"/>
            <p:cNvSpPr/>
            <p:nvPr/>
          </p:nvSpPr>
          <p:spPr>
            <a:xfrm>
              <a:off x="4537440" y="6189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46"/>
            <p:cNvSpPr/>
            <p:nvPr/>
          </p:nvSpPr>
          <p:spPr>
            <a:xfrm>
              <a:off x="4512240" y="617904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47"/>
            <p:cNvSpPr/>
            <p:nvPr/>
          </p:nvSpPr>
          <p:spPr>
            <a:xfrm>
              <a:off x="4512240" y="6177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48"/>
            <p:cNvSpPr/>
            <p:nvPr/>
          </p:nvSpPr>
          <p:spPr>
            <a:xfrm>
              <a:off x="4504320" y="6191280"/>
              <a:ext cx="27000" cy="35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49"/>
            <p:cNvSpPr/>
            <p:nvPr/>
          </p:nvSpPr>
          <p:spPr>
            <a:xfrm>
              <a:off x="4502520" y="6191280"/>
              <a:ext cx="30240" cy="36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0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1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2"/>
            <p:cNvSpPr/>
            <p:nvPr/>
          </p:nvSpPr>
          <p:spPr>
            <a:xfrm flipH="1">
              <a:off x="4955400" y="1978920"/>
              <a:ext cx="1302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53"/>
            <p:cNvSpPr/>
            <p:nvPr/>
          </p:nvSpPr>
          <p:spPr>
            <a:xfrm>
              <a:off x="3871080" y="2678760"/>
              <a:ext cx="711360" cy="19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54"/>
            <p:cNvSpPr/>
            <p:nvPr/>
          </p:nvSpPr>
          <p:spPr>
            <a:xfrm>
              <a:off x="3508920" y="3448080"/>
              <a:ext cx="926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5"/>
            <p:cNvSpPr/>
            <p:nvPr/>
          </p:nvSpPr>
          <p:spPr>
            <a:xfrm>
              <a:off x="250920" y="2498400"/>
              <a:ext cx="384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РЕСПИРАТО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6"/>
            <p:cNvSpPr/>
            <p:nvPr/>
          </p:nvSpPr>
          <p:spPr>
            <a:xfrm>
              <a:off x="250920" y="3238200"/>
              <a:ext cx="346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ХОРМОНСК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7"/>
            <p:cNvSpPr/>
            <p:nvPr/>
          </p:nvSpPr>
          <p:spPr>
            <a:xfrm>
              <a:off x="6164640" y="1838880"/>
              <a:ext cx="231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СЛУШНИ АПА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58"/>
            <p:cNvSpPr/>
            <p:nvPr/>
          </p:nvSpPr>
          <p:spPr>
            <a:xfrm flipH="1">
              <a:off x="4795560" y="2850120"/>
              <a:ext cx="1422360" cy="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59"/>
            <p:cNvSpPr/>
            <p:nvPr/>
          </p:nvSpPr>
          <p:spPr>
            <a:xfrm>
              <a:off x="313560" y="1700280"/>
              <a:ext cx="26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ПОРЕМЕЋАЈИ ЦНС-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60"/>
            <p:cNvSpPr/>
            <p:nvPr/>
          </p:nvSpPr>
          <p:spPr>
            <a:xfrm>
              <a:off x="2713320" y="1909800"/>
              <a:ext cx="173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685800" y="40464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слушних оштећења, као последица утицаја буке, најчешће се јављ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ећај притиска у уш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ањена чујност шапата и звукова високих фрекфенција све до губитк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слуха се најчешће јавља на фрекфенцијама од 3500 до 5000 Hz и најчешће је последица изложености буци на радном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ложеност буци ван радног места изазива удружене слушне са ванслушним ефек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684360" y="476280"/>
            <a:ext cx="7924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ед директног механичког утицаја буке, које се среће само код изузетно јаке буке, остали утицаји на човечији организам се могу објаснити повећаном стимулацијом вегетативног нервног система (симпатик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јачини буке преко 60 dB, а посебно преко 80 dB брзо се јављају симптоми повећаног тонуса симпатикуса. Што је интензитет буке већи симптоми су израженији и јављају се у краћем времену после почетка излаг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685800" y="476280"/>
            <a:ext cx="7924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дражај симпатикуса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ч артери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ст крвног притиска нарочито дијастол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 ударног волумен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ањење периферне цирк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 дисања, покрета црева, функције централног нервног система, целокупног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а лучења надбубрежних жлезди, панкреаса, хипоф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685800" y="2146320"/>
            <a:ext cx="792468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мптоми који се најчешће јављају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с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7272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ЗВОЉЕНИ НИВО 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4360" y="2708280"/>
            <a:ext cx="3429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е зград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боравишне просторије-затворен прост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343400" y="2254320"/>
            <a:ext cx="4800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12840" y="2133720"/>
            <a:ext cx="3700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ин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есн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д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ерацио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ло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дицинс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343400" y="1413000"/>
            <a:ext cx="4800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785880" y="1500120"/>
            <a:ext cx="327636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ни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ва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рава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р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нзио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325760" y="1484280"/>
            <a:ext cx="48006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3. Просторије за васпитно-образовни ра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чионице, слушаонице, кабине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биоскопи и библи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370400" y="1990800"/>
            <a:ext cx="4800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4. Позоришне и концертне с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. Хотелске 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316400" y="1557360"/>
            <a:ext cx="48006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9640" y="765000"/>
            <a:ext cx="792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ука у животној средин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јесте нежељен или штетан зву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ор бук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ваки емитер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жељеног или штетног звука. 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може да буде сваки уређај, средство за рад, саобраћајно средство, инсталација постројења, технолошки поступак, електроакустички уређај, људска активнос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Изворима звука сматрају се покретни и непокретни објекти који под одређеним околностима генеришу зву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а такође и отворени и затворени простори за спорт, игру, пле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представе, концер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луш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 музике и сл. као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оститељски објекти,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араже, паркинг простори и др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1981080"/>
            <a:ext cx="3505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овно-стамбена и трговачко-стамбена, дечија играл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колска, туристичка, се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343400" y="1981080"/>
            <a:ext cx="48006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762120" y="1905120"/>
            <a:ext cx="35049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ленила, одмора и рекреације, болничка, викенд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дски ц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устријска без стамбених з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343400" y="1981080"/>
            <a:ext cx="480060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                                                  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                                              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762120" y="72720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755640" y="1700280"/>
            <a:ext cx="8064360" cy="4503240"/>
            <a:chOff x="755640" y="1700280"/>
            <a:chExt cx="8064360" cy="4503240"/>
          </a:xfrm>
        </p:grpSpPr>
        <p:sp>
          <p:nvSpPr>
            <p:cNvPr id="359" name="Text Box 4"/>
            <p:cNvSpPr/>
            <p:nvPr/>
          </p:nvSpPr>
          <p:spPr>
            <a:xfrm>
              <a:off x="3714840" y="1700280"/>
              <a:ext cx="16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Times New Roman"/>
                </a:rPr>
                <a:t>БУ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"/>
            <p:cNvSpPr/>
            <p:nvPr/>
          </p:nvSpPr>
          <p:spPr>
            <a:xfrm>
              <a:off x="755640" y="220500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ПРИРОДЕ без утицаја ч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"/>
            <p:cNvSpPr/>
            <p:nvPr/>
          </p:nvSpPr>
          <p:spPr>
            <a:xfrm>
              <a:off x="5651640" y="2133720"/>
              <a:ext cx="27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КОЈУ СТВАРА Ч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755640" y="3193920"/>
              <a:ext cx="3311640" cy="3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РАДНОЈ СРЕДИ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на радном мест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са других радних ме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непроизводних извора (саобраћај, вентилација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"/>
            <p:cNvSpPr/>
            <p:nvPr/>
          </p:nvSpPr>
          <p:spPr>
            <a:xfrm>
              <a:off x="4859280" y="3141720"/>
              <a:ext cx="3960720" cy="28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ЖИВОТНОЈ СРЕДИНИ (КОМУНАЛНА БУ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 кућ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саобраћа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индустријска постројењ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лич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 flipH="1">
              <a:off x="2771280" y="1989000"/>
              <a:ext cx="863640" cy="287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932360" y="1989000"/>
              <a:ext cx="792000" cy="216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 flipH="1">
              <a:off x="3058920" y="2708280"/>
              <a:ext cx="2592360" cy="576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6948360" y="2852640"/>
              <a:ext cx="0" cy="289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МЕРЕ ЗАШТИТ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68360" y="4451400"/>
            <a:ext cx="23032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ЗИ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контракција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еуролошки феномен од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адап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2700360" y="2133720"/>
            <a:ext cx="374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из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пренош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месту приј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лична заш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мена процеса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227640" y="3933720"/>
            <a:ext cx="28083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НО СОЦИЈ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орме и станда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одл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жал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ет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 flipH="1">
            <a:off x="1186920" y="1916280"/>
            <a:ext cx="1513080" cy="2304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588000" y="1773360"/>
            <a:ext cx="1152720" cy="20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4500720" y="1628640"/>
            <a:ext cx="0" cy="50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539640" y="1773360"/>
            <a:ext cx="79916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ИЗИОЛОШКЕ МЕРЕ ЗАШТИТЕ ОД 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промене физичких карактеристика средњег уха и неуролошки феномени адаптације и з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 дејством буке настаје контракција мишића средњег уха и смањење преноса звука према унутрашњем у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јемом првих информација о звуку центри у ЦНС-у смањују осетљивост чула. Настаје слушна адаптација или слушни зам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611280" y="2060640"/>
            <a:ext cx="784836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у мере које отклањају буку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утањи између извора и пријем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сту пријема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611280" y="189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8360" y="1413000"/>
            <a:ext cx="8281800" cy="51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извору буке се постиже: смањењем побудних сила, пригушењем елемената на које делују побудне силе, променом режима, начина и принципа рада из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путањи звука за изворе на отвореном простору обухвата: урбанистичка и архитектонска решење постављања извора, коришћење акустичких заклона, пројектовање улица и простора, распоред просторија, врата, прозор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alibri"/>
              </a:rPr>
              <a:t>Звучна заштита на путањи звука за изворе на затвореном простору обухвата: избор места за лоцирање извора, груписање бучних и тихих просторија, звучну заштиту инсталација, избор грађевинских елемената, зидова, међуспратних конструкциј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Звучна заштита на месту пријема звука подразумева заштиту човека (лична заштитна сред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чепови (пригушују буку за 10-15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наушнице (пригушују буку за 25-3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шлемови (пригушују буку д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одела (пригушују буку прек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11280" y="198900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РАВНО СОЦИЈ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ормативи, стандарди и законски прописи претварају важећа научна и стручна знања и сазнања у законске прописе, како би друштво обезбедило њихову примену и омогућило заштиту од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ни обухватају и део казни над онима који их не пош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8000" y="115920"/>
            <a:ext cx="90360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Штетни ефе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у негативни утицаји буке на здравље људ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животну среди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Узнемирав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те степен ометања људи буком, који се утврђу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питивањем на лицу мест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описаним методама про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Индикатор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јесте физичка величина којом се описује бука у животној средини, а везана је за штетни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Процена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јесте метод који се користи за израчунавање, предвиђање или мерење индикатора буке или одговарајућих штетних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295280" y="271296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тодологија мер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5800" y="716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55640" y="1341360"/>
            <a:ext cx="7561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Е КОЈИМА СЕ МЕ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БУКА ЗАВИСЕ ОД ЦИЉА МЕРЕЊ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не пружају податке погодне за оцену нивоа буке и процену могућих утиц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У основи постоје два начина мерења бу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1. ОБЈ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е одређивање и праћење физичких параметара репрезентативних за ниво буке у средини у којој се она јав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. СУБЈЕКТ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могућава процену ометајућег и штетног утицаја. Подразумева директну реакцију човека на физичко стање средине у којој влада бука одређених карактери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755640" y="1700280"/>
            <a:ext cx="75614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треб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ум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т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гнетофо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исач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нц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твар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лектрич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755640" y="2187720"/>
            <a:ext cx="756144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икроф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скофрекфент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чивач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енуа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тек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струмен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ждар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цибел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нструис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вод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ременск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ли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абр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говарају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лте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нзо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кључ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пара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инамич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друч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ели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псе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26-14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755640" y="1844640"/>
            <a:ext cx="756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ставн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т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у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же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намич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руч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0-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вољ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кти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рх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иту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3320" y="333360"/>
            <a:ext cx="878508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АНОВ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ак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3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звољав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елени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кре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лту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окалите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кол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ч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дминистра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р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684360" y="1916280"/>
            <a:ext cx="75610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љу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ксим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4360" y="1916280"/>
            <a:ext cx="75610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единач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ас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поруч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, 5, 2, 1, 0,5, 0,2, 0,1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, 3, 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ухва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матр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2098800"/>
            <a:ext cx="756108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ЦЕН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ЧЕСТВУ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И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поређивање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84360" y="1792440"/>
            <a:ext cx="806436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ређива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рект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ита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ст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ч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узд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жб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мер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д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7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611280" y="404640"/>
            <a:ext cx="79200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кустичко зонирањ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јес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одређивање граничне вредности индикатора буке за различита подручја према њиховој на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Израда стратешких карата бук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јесте представљање података о постојећим или процењеним нивоима буке, укључујући прекорачења прописаних граничних вредности, броја људи изложених буци на неком подручју или броја домаћинстава изложених одређеним вредностима индикатора буке на одређен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Стратешка карта буке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јесте карта која представља податке о нивоима буке на одређеном подручју и служи за процену укупне изложености буци одређеног подручја од различитих извора буке или за предвиђање укуп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буке на нек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90800"/>
            <a:ext cx="7561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ц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треб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п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ти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л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ру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684360" y="1484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зи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посре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755640" y="6597720"/>
            <a:ext cx="777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755640" y="2565360"/>
            <a:ext cx="7777080" cy="757800"/>
            <a:chOff x="755640" y="2565360"/>
            <a:chExt cx="7777080" cy="757800"/>
          </a:xfrm>
        </p:grpSpPr>
        <p:sp>
          <p:nvSpPr>
            <p:cNvPr id="409" name="Line 6"/>
            <p:cNvSpPr/>
            <p:nvPr/>
          </p:nvSpPr>
          <p:spPr>
            <a:xfrm>
              <a:off x="755640" y="256536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755640" y="328464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755640" y="256536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B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4356000" y="256536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Udaljenost u metr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2916360" y="2924280"/>
              <a:ext cx="24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Normalan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372360" y="29242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Glasan 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2"/>
          <p:cNvSpPr/>
          <p:nvPr/>
        </p:nvSpPr>
        <p:spPr>
          <a:xfrm>
            <a:off x="755640" y="3429000"/>
            <a:ext cx="936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708360" y="3421080"/>
            <a:ext cx="100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588000" y="3421080"/>
            <a:ext cx="100836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611280" y="1060560"/>
            <a:ext cx="8137440" cy="58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механичка колебања у области инфразвука и делимично области звучне хрекфе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новне величине које карактеришу вибра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пли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рекф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овек прима вибрације кроз било коју рецептивну зону ко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осетљивија је кожа екстремитета (фаланге прстиј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тљивост на вибрације зависи од дневних колебања прага надражаја, а ово колебање зависи од функционалног стања коре великог мозга. Праг надражаја виши ујутру и ув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611280" y="1424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дреје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алан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684360" y="2133720"/>
            <a:ext cx="8207280" cy="4520160"/>
            <a:chOff x="684360" y="2133720"/>
            <a:chExt cx="8207280" cy="4520160"/>
          </a:xfrm>
        </p:grpSpPr>
        <p:sp>
          <p:nvSpPr>
            <p:cNvPr id="423" name="Line 5"/>
            <p:cNvSpPr/>
            <p:nvPr/>
          </p:nvSpPr>
          <p:spPr>
            <a:xfrm>
              <a:off x="684360" y="6597720"/>
              <a:ext cx="792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684360" y="2133720"/>
              <a:ext cx="7921440" cy="574560"/>
              <a:chOff x="684360" y="2133720"/>
              <a:chExt cx="7921440" cy="574560"/>
            </a:xfrm>
          </p:grpSpPr>
          <p:sp>
            <p:nvSpPr>
              <p:cNvPr id="425" name="Line 7"/>
              <p:cNvSpPr/>
              <p:nvPr/>
            </p:nvSpPr>
            <p:spPr>
              <a:xfrm>
                <a:off x="684360" y="213372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8"/>
              <p:cNvSpPr/>
              <p:nvPr/>
            </p:nvSpPr>
            <p:spPr>
              <a:xfrm>
                <a:off x="684360" y="270828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9"/>
              <p:cNvSpPr/>
              <p:nvPr/>
            </p:nvSpPr>
            <p:spPr>
              <a:xfrm>
                <a:off x="755640" y="2205000"/>
                <a:ext cx="208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Frekfencija (Hz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0"/>
              <p:cNvSpPr/>
              <p:nvPr/>
            </p:nvSpPr>
            <p:spPr>
              <a:xfrm>
                <a:off x="5003640" y="2205000"/>
                <a:ext cx="33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Karakter dejstv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11"/>
            <p:cNvSpPr/>
            <p:nvPr/>
          </p:nvSpPr>
          <p:spPr>
            <a:xfrm>
              <a:off x="755640" y="2781360"/>
              <a:ext cx="158436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16000 i 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3059280" y="2708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ejstvuje ubrzanjem, izaziva poremećaj celog tela i organa, rakciju vestibularnog apar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3040200" y="3376440"/>
              <a:ext cx="577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ima se još kao pojedinačni udar, Izaziva promene koštanozglobnog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3059280" y="4095720"/>
              <a:ext cx="56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ojavljuju se pojedinačni simptomi vibracione bolesti, spazam krvnih sudova je reda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3059280" y="4724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Vibraciona bolest sa angiospazmom, zona obrazovanja angiospazm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3059280" y="5479920"/>
              <a:ext cx="57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Mogućnost vibracione bolesti se isključu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7"/>
            <p:cNvSpPr/>
            <p:nvPr/>
          </p:nvSpPr>
          <p:spPr>
            <a:xfrm>
              <a:off x="3059280" y="5950080"/>
              <a:ext cx="58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elaz mehaničke energije u toplotnu. Baktericidni efekat, kavitacioni efekat, uticaj na C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11280" y="2085840"/>
            <a:ext cx="8137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крет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нкционал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лош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11280" y="1708200"/>
            <a:ext cx="81374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дију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лаб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у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клон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рчев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писа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ањ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офич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штећ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уб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су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аветн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ној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к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тита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В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еж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хват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а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ш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клањ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рећ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49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900000" y="176364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небљ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куп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днос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физичк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оби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угогодишњ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сматрањ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оди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900000" y="1268280"/>
            <a:ext cx="784872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матра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енутк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а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финиса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њ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авц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важн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акто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орм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е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900000" y="1268280"/>
            <a:ext cx="7848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матра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9640" y="620640"/>
            <a:ext cx="7920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Гранична вредност бук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највиша дозвољена вредност индикатора буке. Гран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не вредности могу бити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различите за различите изворе буке, односно за различите акустичке зоне, као и за различите затворене и отворене просторе у којима бораве љ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циони планови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заштите од буке у животној средин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есу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планови који садрже мере заштите од буке и њених ефеката у животној средини, као и мере за смањење буке у случају прекорачења граничних вре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900000" y="1635120"/>
            <a:ext cx="7848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0-12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k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1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ећ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900000" y="1268280"/>
            <a:ext cx="784872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хв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к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еп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че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т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ч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з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ум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00000" y="1557360"/>
            <a:ext cx="7848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двоје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понен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мостал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дин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лан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и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т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гетациј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географс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а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нцелариј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ни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;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нос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зем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е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900000" y="155736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250920" y="1268280"/>
            <a:ext cx="835344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рач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ти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иоакти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а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че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ес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вод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лаж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ш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900000" y="2081160"/>
            <a:ext cx="78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су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лаж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ромета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Bp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W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гађ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ем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ч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иш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не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900000" y="2081160"/>
            <a:ext cx="7848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бин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1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00000" y="141300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ли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п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1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-8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1-4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т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епературо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р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900000" y="2279520"/>
            <a:ext cx="7848720" cy="34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но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ритим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мо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итор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инент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00000" y="1268280"/>
            <a:ext cx="7848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7-10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р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-5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унча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р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иш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а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суст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л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нижа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и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га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од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нерал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гађујуж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755640" y="22096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у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тичко планирањ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предузимање мера заштите од буке у будућности, као што су просторно планирање, пројектовање и планирање система саобраћаја, примена звучне заштите путем одговарајуће звучне изолације и звучних баријера, као и праћење нивоа буке коју емитују извори б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00000" y="1268280"/>
            <a:ext cx="784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имул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изиолош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це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ормализаци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ис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в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ндокри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ист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ункционис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ируј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НС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нем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рон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спиратор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есни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КУТ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СИХИЧ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РЕМЕЋАЈ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Б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ДИОВАСКУЛАР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206208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одиш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но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0-3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900000" y="1982880"/>
            <a:ext cx="784872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дмор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900000" y="1863720"/>
            <a:ext cx="784872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ч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еће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HTA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gina pectoris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спиратор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мфиз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900000" y="1690560"/>
            <a:ext cx="78487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лућ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убреж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м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орав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конвалесц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900000" y="1484280"/>
            <a:ext cx="7848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хити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ем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атопое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пор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јатриј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24000" y="1692360"/>
            <a:ext cx="842472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ИГИЈЕ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иво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љу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К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спрост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нсформ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гађујућ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пособ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пљич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мно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к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носила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ра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ар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у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900000" y="1692360"/>
            <a:ext cx="784872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омеотер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нутрашњ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7-38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љи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1-32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4-35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гиб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6-3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900000" y="1557360"/>
            <a:ext cx="78487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рав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ави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900000" y="1557360"/>
            <a:ext cx="784872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изводњ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ну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прандиј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539640" y="836640"/>
            <a:ext cx="79200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ву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чна заштит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куп мера којим се обезбеђује да звук при преносу из једног у други простор буде ослабљен, као и мере да се бука уређаја и инсталација у објекту смањ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подразумева и скуп мера које се спроводе у спољном простору, а које утичу на смањење нивоа звука при простирањ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се реализује пројектовањем и извођењем звучне изолације конструкција и мерама смањења, односно ограничења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900000" y="1557360"/>
            <a:ext cx="784872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900000" y="1557360"/>
            <a:ext cx="7848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44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ш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м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ди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аш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ж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чи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21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ену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к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 Rv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стиг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100%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ко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900000" y="2165400"/>
            <a:ext cx="784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узет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н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кстре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ог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авлада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е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раз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акс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ин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08000" y="2233440"/>
            <a:ext cx="8856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уц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ђ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3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аз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лот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кључ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иму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0" y="1413000"/>
            <a:ext cx="91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локалних и општих поремећај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 следећих општих поремећа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Дехидрат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Топлотног ос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ој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тријумхлори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и)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келетн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ишићи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нош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љ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ла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апс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црпљ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знур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собно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лагођа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ото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ез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зи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н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ткази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о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г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в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ес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л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брж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 следећих локалних поремећај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нча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пекотине 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900000" y="22161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зеб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лаз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паљен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сај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ут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ерг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вов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рз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900000" y="162864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узн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т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ру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могуће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Шт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м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вод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с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узим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егов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схлађ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ЈБО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Е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45%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7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900000" y="1341360"/>
            <a:ext cx="78487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би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у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за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и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АЛИЗИРАЈУ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ФИЗИ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79280" y="1341360"/>
            <a:ext cx="85694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ПОЗНАТ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о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жиљ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гоб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глоб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лућ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мбол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ронар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з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ртер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н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пилеп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амоуби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нфектив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ип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орб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уб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иомиелити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лергиј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ен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ијав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фотодерматоз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5640" y="170028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Звучна изолациј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војство грађевинске конструкције д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у што већој ме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спречи преношење звучне енергије из једног простора у дру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Звучна изолација може да буде од ваздушног или структурног звук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о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стварује се на објекту архитектонско-грађевинским мерама које спречавају пренос звука из једног у други прос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24000" y="2576520"/>
            <a:ext cx="8424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св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РУЖЕНО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ГЕТАТИ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Г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НАК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900000" y="2048040"/>
            <a:ext cx="7848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дузим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в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шћ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ак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шти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бег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6840" y="3805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тицај временских стања и промена на здрав и болестан организ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медицинског становишта значајна је и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оптич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прогнозира временске ситуације и на основу којих се дају упутства и савети хроничним болесницима, али и здравим особама, како да поступају у ситуацијама ексцесних временских проме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4572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којим се бави медицинска метеорологија је утицај временских прилика на здраво и болесно становништво. При томе се дели на :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физи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ат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рофилакс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терапиј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Синоптички систем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04920" y="115920"/>
            <a:ext cx="8610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повишеног атмосферског притиска. Највиша вредност атмосферског притиска је у центру антициклона, док се према перифереији постепено смањује. У самом централном делу ваздух се са већих висина спушта према земљиној површини, при  чему се загрева, тако да су услови за формирање облака мали. Антициклон подразумев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, суво и углавном тихо врем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ваздушна маса која се у нашим пределима углавном премешта са запада на исток или са сверозапада на југоисток. Како се циклони образују на фронталним системима, њиховим премештањем и систем топли-хладни фронт се премешта у истом правцу, узрокујући доста нагле промене време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здушни притисак све више опа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тар јача и скреће према југу. Када се центар циклона савим приближи посматраној области, ветар нагло слаби и убрзо почиње д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ва јак и хладан вета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сверозападног квадранта.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гло оп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ма Републичком хидрометеоролошком заводу Србије детерминисане биометеоролошке фазе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С (циклон, топл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В (циклон, топл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Ф (топл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Ф(хладн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В (циклон, хладно, влажн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С (циклон, хладн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С (антициклон, хладн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 (антициклон, хладн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 (антициклон, топл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 (антициклон, топло, влаж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684360" y="476280"/>
            <a:ext cx="7920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БИОМЕТЕОРОЛОШКЕ ФАЗЕ-БМ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133720" y="2666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762120" y="1600200"/>
            <a:ext cx="769608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ИТ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ПОРН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довољ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уче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ољ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иг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нтрол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треб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08000" y="1600200"/>
            <a:ext cx="83502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НК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ављ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ду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њ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њ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истематич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азуме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бо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р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лик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стоврем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762120" y="2249640"/>
            <a:ext cx="6324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27:59Z</dcterms:created>
  <dc:creator>Windows User</dc:creator>
  <dc:description/>
  <dc:language>en-US</dc:language>
  <cp:lastModifiedBy>Pc</cp:lastModifiedBy>
  <dcterms:modified xsi:type="dcterms:W3CDTF">2020-09-06T10:22:21Z</dcterms:modified>
  <cp:revision>22</cp:revision>
  <dc:subject/>
  <dc:title>ХИГИЈЕНА И ЕКОЛОГИЈА</dc:title>
</cp:coreProperties>
</file>